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0.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422.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479.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526.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538.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537.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5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507.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499.xml.rels" ContentType="application/vnd.openxmlformats-package.relationships+xml"/>
  <Override PartName="/ppt/slideLayouts/_rels/slideLayout525.xml.rels" ContentType="application/vnd.openxmlformats-package.relationships+xml"/>
  <Override PartName="/ppt/slideLayouts/_rels/slideLayout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60.xml.rels" ContentType="application/vnd.openxmlformats-package.relationships+xml"/>
  <Override PartName="/ppt/slideLayouts/_rels/slideLayout355.xml.rels" ContentType="application/vnd.openxmlformats-package.relationships+xml"/>
  <Override PartName="/ppt/slideLayouts/_rels/slideLayout524.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501.xml.rels" ContentType="application/vnd.openxmlformats-package.relationships+xml"/>
  <Override PartName="/ppt/slideLayouts/_rels/slideLayout52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339.xml.rels" ContentType="application/vnd.openxmlformats-package.relationships+xml"/>
  <Override PartName="/ppt/slideLayouts/_rels/slideLayout396.xml.rels" ContentType="application/vnd.openxmlformats-package.relationships+xml"/>
  <Override PartName="/ppt/slideLayouts/_rels/slideLayout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467.xml.rels" ContentType="application/vnd.openxmlformats-package.relationships+xml"/>
  <Override PartName="/ppt/slideLayouts/_rels/slideLayout532.xml.rels" ContentType="application/vnd.openxmlformats-package.relationships+xml"/>
  <Override PartName="/ppt/slideLayouts/_rels/slideLayout377.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327.xml.rels" ContentType="application/vnd.openxmlformats-package.relationships+xml"/>
  <Override PartName="/ppt/slideLayouts/_rels/slideLayout371.xml.rels" ContentType="application/vnd.openxmlformats-package.relationships+xml"/>
  <Override PartName="/ppt/slideLayouts/_rels/slideLayout366.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335.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505.xml.rels" ContentType="application/vnd.openxmlformats-package.relationships+xml"/>
  <Override PartName="/ppt/slideLayouts/_rels/slideLayout521.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3.xml.rels" ContentType="application/vnd.openxmlformats-package.relationships+xml"/>
  <Override PartName="/ppt/slideLayouts/_rels/slideLayout517.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65.xml.rels" ContentType="application/vnd.openxmlformats-package.relationships+xml"/>
  <Override PartName="/ppt/slideLayouts/_rels/slideLayout52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522.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30.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53.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00.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4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6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62.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531.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536.xml.rels" ContentType="application/vnd.openxmlformats-package.relationships+xml"/>
  <Override PartName="/ppt/slideLayouts/_rels/slideLayout27.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33.xml.rels" ContentType="application/vnd.openxmlformats-package.relationships+xml"/>
  <Override PartName="/ppt/slideLayouts/_rels/slideLayout23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539.xml.rels" ContentType="application/vnd.openxmlformats-package.relationships+xml"/>
  <Override PartName="/ppt/slideLayouts/_rels/slideLayout52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528.xml.rels" ContentType="application/vnd.openxmlformats-package.relationships+xml"/>
  <Override PartName="/ppt/slideLayouts/_rels/slideLayout53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92.xml" ContentType="application/vnd.openxmlformats-officedocument.presentationml.slideLayout+xml"/>
  <Override PartName="/ppt/slideLayouts/slideLayout383.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93.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9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40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44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78.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391.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80.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96.xml" ContentType="application/vnd.openxmlformats-officedocument.presentationml.slideLayout+xml"/>
  <Override PartName="/ppt/slideLayouts/slideLayout534.xml" ContentType="application/vnd.openxmlformats-officedocument.presentationml.slideLayout+xml"/>
  <Override PartName="/ppt/slideLayouts/slideLayout390.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95.xml" ContentType="application/vnd.openxmlformats-officedocument.presentationml.slideLayout+xml"/>
  <Override PartName="/ppt/slideLayouts/slideLayout533.xml" ContentType="application/vnd.openxmlformats-officedocument.presentationml.slideLayout+xml"/>
  <Override PartName="/ppt/slideLayouts/slideLayout411.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1.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82.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450.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505.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4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04.xml" ContentType="application/vnd.openxmlformats-officedocument.presentationml.slideLayout+xml"/>
  <Override PartName="/ppt/slideLayouts/slideLayout466.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431.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410.xml" ContentType="application/vnd.openxmlformats-officedocument.presentationml.slideLayout+xml"/>
  <Override PartName="/ppt/slideLayouts/slideLayout341.xml" ContentType="application/vnd.openxmlformats-officedocument.presentationml.slideLayout+xml"/>
  <Override PartName="/ppt/slideLayouts/slideLayout507.xml" ContentType="application/vnd.openxmlformats-officedocument.presentationml.slideLayout+xml"/>
  <Override PartName="/ppt/slideLayouts/slideLayout469.xml" ContentType="application/vnd.openxmlformats-officedocument.presentationml.slideLayout+xml"/>
  <Override PartName="/ppt/slideLayouts/slideLayout340.xml" ContentType="application/vnd.openxmlformats-officedocument.presentationml.slideLayout+xml"/>
  <Override PartName="/ppt/slideLayouts/slideLayout506.xml" ContentType="application/vnd.openxmlformats-officedocument.presentationml.slideLayout+xml"/>
  <Override PartName="/ppt/slideLayouts/slideLayout468.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23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media/image12.png" ContentType="image/png"/>
  <Override PartName="/ppt/media/image14.png" ContentType="image/png"/>
  <Override PartName="/ppt/media/image1.wmf" ContentType="image/x-wmf"/>
  <Override PartName="/ppt/media/image2.wmf" ContentType="image/x-wmf"/>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Lst>
  <p:notesMasterIdLst>
    <p:notesMasterId r:id="rId47"/>
  </p:notesMasterIdLst>
  <p:sldIdLst>
    <p:sldId id="256" r:id="rId48"/>
    <p:sldId id="257" r:id="rId49"/>
    <p:sldId id="258" r:id="rId50"/>
    <p:sldId id="259" r:id="rId51"/>
    <p:sldId id="260" r:id="rId52"/>
    <p:sldId id="261" r:id="rId53"/>
    <p:sldId id="262" r:id="rId54"/>
    <p:sldId id="263" r:id="rId55"/>
    <p:sldId id="264" r:id="rId56"/>
    <p:sldId id="265" r:id="rId57"/>
    <p:sldId id="266" r:id="rId58"/>
    <p:sldId id="267" r:id="rId59"/>
    <p:sldId id="268" r:id="rId60"/>
    <p:sldId id="269" r:id="rId61"/>
    <p:sldId id="270" r:id="rId62"/>
    <p:sldId id="271" r:id="rId63"/>
    <p:sldId id="272" r:id="rId64"/>
    <p:sldId id="273" r:id="rId65"/>
  </p:sldIdLst>
  <p:sldSz cx="9144000" cy="6858000"/>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notesMaster" Target="notesMasters/notesMaster1.xml"/><Relationship Id="rId48" Type="http://schemas.openxmlformats.org/officeDocument/2006/relationships/slide" Target="slides/slide1.xml"/><Relationship Id="rId49" Type="http://schemas.openxmlformats.org/officeDocument/2006/relationships/slide" Target="slides/slide2.xml"/><Relationship Id="rId50" Type="http://schemas.openxmlformats.org/officeDocument/2006/relationships/slide" Target="slides/slide3.xml"/><Relationship Id="rId51" Type="http://schemas.openxmlformats.org/officeDocument/2006/relationships/slide" Target="slides/slide4.xml"/><Relationship Id="rId52" Type="http://schemas.openxmlformats.org/officeDocument/2006/relationships/slide" Target="slides/slide5.xml"/><Relationship Id="rId53" Type="http://schemas.openxmlformats.org/officeDocument/2006/relationships/slide" Target="slides/slide6.xml"/><Relationship Id="rId54" Type="http://schemas.openxmlformats.org/officeDocument/2006/relationships/slide" Target="slides/slide7.xml"/><Relationship Id="rId55" Type="http://schemas.openxmlformats.org/officeDocument/2006/relationships/slide" Target="slides/slide8.xml"/><Relationship Id="rId56" Type="http://schemas.openxmlformats.org/officeDocument/2006/relationships/slide" Target="slides/slide9.xml"/><Relationship Id="rId57" Type="http://schemas.openxmlformats.org/officeDocument/2006/relationships/slide" Target="slides/slide10.xml"/><Relationship Id="rId58" Type="http://schemas.openxmlformats.org/officeDocument/2006/relationships/slide" Target="slides/slide11.xml"/><Relationship Id="rId59" Type="http://schemas.openxmlformats.org/officeDocument/2006/relationships/slide" Target="slides/slide12.xml"/><Relationship Id="rId60" Type="http://schemas.openxmlformats.org/officeDocument/2006/relationships/slide" Target="slides/slide13.xml"/><Relationship Id="rId61" Type="http://schemas.openxmlformats.org/officeDocument/2006/relationships/slide" Target="slides/slide14.xml"/><Relationship Id="rId62" Type="http://schemas.openxmlformats.org/officeDocument/2006/relationships/slide" Target="slides/slide15.xml"/><Relationship Id="rId63" Type="http://schemas.openxmlformats.org/officeDocument/2006/relationships/slide" Target="slides/slide16.xml"/><Relationship Id="rId64" Type="http://schemas.openxmlformats.org/officeDocument/2006/relationships/slide" Target="slides/slide17.xml"/><Relationship Id="rId65" Type="http://schemas.openxmlformats.org/officeDocument/2006/relationships/slide" Target="slides/slide18.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
          <p:cNvSpPr/>
          <p:nvPr/>
        </p:nvSpPr>
        <p:spPr>
          <a:xfrm>
            <a:off x="0" y="0"/>
            <a:ext cx="9867600" cy="673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81" name="PlaceHolder 1"/>
          <p:cNvSpPr>
            <a:spLocks noGrp="1"/>
          </p:cNvSpPr>
          <p:nvPr>
            <p:ph type="hdr"/>
          </p:nvPr>
        </p:nvSpPr>
        <p:spPr>
          <a:xfrm>
            <a:off x="-360" y="-360"/>
            <a:ext cx="42750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2" name="PlaceHolder 2"/>
          <p:cNvSpPr>
            <a:spLocks noGrp="1"/>
          </p:cNvSpPr>
          <p:nvPr>
            <p:ph type="dt" idx="118"/>
          </p:nvPr>
        </p:nvSpPr>
        <p:spPr>
          <a:xfrm>
            <a:off x="5587920" y="-360"/>
            <a:ext cx="42768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3" name="PlaceHolder 3"/>
          <p:cNvSpPr>
            <a:spLocks noGrp="1"/>
          </p:cNvSpPr>
          <p:nvPr>
            <p:ph type="sldImg"/>
          </p:nvPr>
        </p:nvSpPr>
        <p:spPr>
          <a:xfrm>
            <a:off x="3249360" y="504720"/>
            <a:ext cx="3367080" cy="2525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884" name="PlaceHolder 4"/>
          <p:cNvSpPr>
            <a:spLocks noGrp="1"/>
          </p:cNvSpPr>
          <p:nvPr>
            <p:ph type="body"/>
          </p:nvPr>
        </p:nvSpPr>
        <p:spPr>
          <a:xfrm>
            <a:off x="987120" y="3198960"/>
            <a:ext cx="7893000" cy="303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85" name="PlaceHolder 5"/>
          <p:cNvSpPr>
            <a:spLocks noGrp="1"/>
          </p:cNvSpPr>
          <p:nvPr>
            <p:ph type="ftr" idx="119"/>
          </p:nvPr>
        </p:nvSpPr>
        <p:spPr>
          <a:xfrm>
            <a:off x="-360" y="6397200"/>
            <a:ext cx="4275000" cy="336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86" name="PlaceHolder 6"/>
          <p:cNvSpPr>
            <a:spLocks noGrp="1"/>
          </p:cNvSpPr>
          <p:nvPr>
            <p:ph type="sldNum" idx="120"/>
          </p:nvPr>
        </p:nvSpPr>
        <p:spPr>
          <a:xfrm>
            <a:off x="5587920" y="6397200"/>
            <a:ext cx="4276800" cy="336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874F-14F1-42D7-89E5-0488F096F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sldImg"/>
          </p:nvPr>
        </p:nvSpPr>
        <p:spPr>
          <a:xfrm>
            <a:off x="3249720" y="504720"/>
            <a:ext cx="3367080" cy="2525760"/>
          </a:xfrm>
          <a:prstGeom prst="rect">
            <a:avLst/>
          </a:prstGeom>
          <a:ln w="0">
            <a:noFill/>
          </a:ln>
        </p:spPr>
      </p:sp>
      <p:sp>
        <p:nvSpPr>
          <p:cNvPr id="1939" name="PlaceHolder 2"/>
          <p:cNvSpPr>
            <a:spLocks noGrp="1"/>
          </p:cNvSpPr>
          <p:nvPr>
            <p:ph type="body"/>
          </p:nvPr>
        </p:nvSpPr>
        <p:spPr>
          <a:xfrm>
            <a:off x="987120" y="3198960"/>
            <a:ext cx="789300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0"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9069-1BD8-4679-8B97-04F992848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sldImg"/>
          </p:nvPr>
        </p:nvSpPr>
        <p:spPr>
          <a:xfrm>
            <a:off x="3249720" y="504720"/>
            <a:ext cx="3367080" cy="2525760"/>
          </a:xfrm>
          <a:prstGeom prst="rect">
            <a:avLst/>
          </a:prstGeom>
          <a:ln w="0">
            <a:noFill/>
          </a:ln>
        </p:spPr>
      </p:sp>
      <p:sp>
        <p:nvSpPr>
          <p:cNvPr id="1966"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questions: lead-in questions about one of the major topics of the interview, typically related to the main points for the speech.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questions: are follow-up questions designed to probe the answers given to primary question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questions: broad-based probes that ask the interviewee to provide perspective, ideas, information, or opinions as he or she wishe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d questions: narrowly focused and require very brief (one- or two-word) answer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questions: questions phrased in ways that do not direct a person’s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7"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449E-92E5-470E-B0B8-80BBD02B9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7"/>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A258-E28A-4C37-AD33-24EA37875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9" name="PlaceHolder 1"/>
          <p:cNvSpPr>
            <a:spLocks noGrp="1"/>
          </p:cNvSpPr>
          <p:nvPr>
            <p:ph type="sldImg"/>
          </p:nvPr>
        </p:nvSpPr>
        <p:spPr>
          <a:xfrm>
            <a:off x="3249720" y="504720"/>
            <a:ext cx="3367080" cy="2525760"/>
          </a:xfrm>
          <a:prstGeom prst="rect">
            <a:avLst/>
          </a:prstGeom>
          <a:ln w="0">
            <a:noFill/>
          </a:ln>
        </p:spPr>
      </p:sp>
      <p:sp>
        <p:nvSpPr>
          <p:cNvPr id="1970"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1 presents a list of topics for an interview with a music producer when the goal is to learn about how to find and sign new tale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PlaceHolder 1"/>
          <p:cNvSpPr>
            <a:spLocks noGrp="1"/>
          </p:cNvSpPr>
          <p:nvPr>
            <p:ph type="sldImg"/>
          </p:nvPr>
        </p:nvSpPr>
        <p:spPr>
          <a:xfrm>
            <a:off x="3249720" y="504720"/>
            <a:ext cx="3367080" cy="2525760"/>
          </a:xfrm>
          <a:prstGeom prst="rect">
            <a:avLst/>
          </a:prstGeom>
          <a:ln w="0">
            <a:noFill/>
          </a:ln>
        </p:spPr>
      </p:sp>
      <p:sp>
        <p:nvSpPr>
          <p:cNvPr id="1972"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ual</a:t>
            </a:r>
            <a:r>
              <a:rPr b="0" lang="en-US" sz="1200" spc="-1" strike="noStrike">
                <a:solidFill>
                  <a:srgbClr val="000000"/>
                </a:solidFill>
                <a:latin typeface="Arial"/>
              </a:rPr>
              <a:t> </a:t>
            </a:r>
            <a:r>
              <a:rPr b="0" i="1" lang="en-US" sz="1200" spc="-1" strike="noStrike">
                <a:solidFill>
                  <a:srgbClr val="000000"/>
                </a:solidFill>
                <a:latin typeface="Arial"/>
              </a:rPr>
              <a:t>statements</a:t>
            </a:r>
            <a:r>
              <a:rPr b="0" lang="en-US" sz="1200" spc="-1" strike="noStrike">
                <a:solidFill>
                  <a:srgbClr val="000000"/>
                </a:solidFill>
                <a:latin typeface="Arial"/>
              </a:rPr>
              <a:t> are those that can be verified. </a:t>
            </a:r>
            <a:r>
              <a:rPr b="0" i="1" lang="en-US" sz="1200" spc="-1" strike="noStrike">
                <a:solidFill>
                  <a:srgbClr val="000000"/>
                </a:solidFill>
                <a:latin typeface="Arial"/>
              </a:rPr>
              <a:t>Statistics</a:t>
            </a:r>
            <a:r>
              <a:rPr b="0" lang="en-US" sz="1200" spc="-1" strike="noStrike">
                <a:solidFill>
                  <a:srgbClr val="000000"/>
                </a:solidFill>
                <a:latin typeface="Arial"/>
              </a:rPr>
              <a:t> are numerical facts. </a:t>
            </a:r>
            <a:r>
              <a:rPr b="0" i="1" lang="en-US" sz="1200" spc="-1" strike="noStrike">
                <a:solidFill>
                  <a:srgbClr val="000000"/>
                </a:solidFill>
                <a:latin typeface="Arial"/>
              </a:rPr>
              <a:t>Examples</a:t>
            </a:r>
            <a:r>
              <a:rPr b="0" lang="en-US" sz="1200" spc="-1" strike="noStrike">
                <a:solidFill>
                  <a:srgbClr val="000000"/>
                </a:solidFill>
                <a:latin typeface="Arial"/>
              </a:rPr>
              <a:t> are specific instances that illustrate or explain a general factual statement. A </a:t>
            </a:r>
            <a:r>
              <a:rPr b="0" i="1" lang="en-US" sz="1200" spc="-1" strike="noStrike">
                <a:solidFill>
                  <a:srgbClr val="000000"/>
                </a:solidFill>
                <a:latin typeface="Arial"/>
              </a:rPr>
              <a:t>definition</a:t>
            </a:r>
            <a:r>
              <a:rPr b="0" lang="en-US" sz="1200" spc="-1" strike="noStrike">
                <a:solidFill>
                  <a:srgbClr val="000000"/>
                </a:solidFill>
                <a:latin typeface="Arial"/>
              </a:rPr>
              <a:t> is a statement that clarifies the meaning of a word or phras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pert</a:t>
            </a:r>
            <a:r>
              <a:rPr b="0" lang="en-US" sz="1200" spc="-1" strike="noStrike">
                <a:solidFill>
                  <a:srgbClr val="000000"/>
                </a:solidFill>
                <a:latin typeface="Arial"/>
              </a:rPr>
              <a:t> </a:t>
            </a:r>
            <a:r>
              <a:rPr b="0" i="1" lang="en-US" sz="1200" spc="-1" strike="noStrike">
                <a:solidFill>
                  <a:srgbClr val="000000"/>
                </a:solidFill>
                <a:latin typeface="Arial"/>
              </a:rPr>
              <a:t>opinions</a:t>
            </a:r>
            <a:r>
              <a:rPr b="0" lang="en-US" sz="1200" spc="-1" strike="noStrike">
                <a:solidFill>
                  <a:srgbClr val="000000"/>
                </a:solidFill>
                <a:latin typeface="Arial"/>
              </a:rPr>
              <a:t> are interpretations and judgments made by authorities in a particular subject area. They can help explain what facts mean or put them in perspectiv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factual information and expert opinions can be </a:t>
            </a:r>
            <a:r>
              <a:rPr b="0" i="1" lang="en-US" sz="1200" spc="-1" strike="noStrike">
                <a:solidFill>
                  <a:srgbClr val="000000"/>
                </a:solidFill>
                <a:latin typeface="Arial"/>
              </a:rPr>
              <a:t>elaborated</a:t>
            </a:r>
            <a:r>
              <a:rPr b="0" lang="en-US" sz="1200" spc="-1" strike="noStrike">
                <a:solidFill>
                  <a:srgbClr val="000000"/>
                </a:solidFill>
                <a:latin typeface="Arial"/>
              </a:rPr>
              <a:t> on through anecdotes and narratives, comparisons and contrasts, or quotable explanations and opinions. </a:t>
            </a:r>
            <a:r>
              <a:rPr b="0" i="1" lang="en-US" sz="1200" spc="-1" strike="noStrike">
                <a:solidFill>
                  <a:srgbClr val="000000"/>
                </a:solidFill>
                <a:latin typeface="Arial"/>
              </a:rPr>
              <a:t>Anecdotes</a:t>
            </a:r>
            <a:r>
              <a:rPr b="0" lang="en-US" sz="1200" spc="-1" strike="noStrike">
                <a:solidFill>
                  <a:srgbClr val="000000"/>
                </a:solidFill>
                <a:latin typeface="Arial"/>
              </a:rPr>
              <a:t> are brief, often amusing stories; </a:t>
            </a:r>
            <a:r>
              <a:rPr b="0" i="1" lang="en-US" sz="1200" spc="-1" strike="noStrike">
                <a:solidFill>
                  <a:srgbClr val="000000"/>
                </a:solidFill>
                <a:latin typeface="Arial"/>
              </a:rPr>
              <a:t>narratives</a:t>
            </a:r>
            <a:r>
              <a:rPr b="0" lang="en-US" sz="1200" spc="-1" strike="noStrike">
                <a:solidFill>
                  <a:srgbClr val="000000"/>
                </a:solidFill>
                <a:latin typeface="Arial"/>
              </a:rPr>
              <a:t> are accounts, personal experiences, tales, or lengthier stories. </a:t>
            </a:r>
            <a:r>
              <a:rPr b="0" i="1" lang="en-US" sz="1200" spc="-1" strike="noStrike">
                <a:solidFill>
                  <a:srgbClr val="000000"/>
                </a:solidFill>
                <a:latin typeface="Arial"/>
              </a:rPr>
              <a:t>Comparisons</a:t>
            </a:r>
            <a:r>
              <a:rPr b="0" lang="en-US" sz="1200" spc="-1" strike="noStrike">
                <a:solidFill>
                  <a:srgbClr val="000000"/>
                </a:solidFill>
                <a:latin typeface="Arial"/>
              </a:rPr>
              <a:t> illuminate a point by showing similarities; </a:t>
            </a:r>
            <a:r>
              <a:rPr b="0" i="1" lang="en-US" sz="1200" spc="-1" strike="noStrike">
                <a:solidFill>
                  <a:srgbClr val="000000"/>
                </a:solidFill>
                <a:latin typeface="Arial"/>
              </a:rPr>
              <a:t>contrasts</a:t>
            </a:r>
            <a:r>
              <a:rPr b="0" lang="en-US" sz="1200" spc="-1" strike="noStrike">
                <a:solidFill>
                  <a:srgbClr val="000000"/>
                </a:solidFill>
                <a:latin typeface="Arial"/>
              </a:rPr>
              <a:t> highlight dif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3"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E30C-93C4-41A1-9401-F50C5E874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sldImg"/>
          </p:nvPr>
        </p:nvSpPr>
        <p:spPr>
          <a:xfrm>
            <a:off x="3249720" y="504720"/>
            <a:ext cx="3367080" cy="2525760"/>
          </a:xfrm>
          <a:prstGeom prst="rect">
            <a:avLst/>
          </a:prstGeom>
          <a:ln w="0">
            <a:noFill/>
          </a:ln>
        </p:spPr>
      </p:sp>
      <p:sp>
        <p:nvSpPr>
          <p:cNvPr id="1975"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statements can provide impressive support for a point, but when they are poorly used in a speech, they may be boring and, in some instances, downright deceiving. These guidelines can help you use statistics effectively and et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6"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5AE4-6A98-4A25-A4A7-AAB81F1BB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sldImg"/>
          </p:nvPr>
        </p:nvSpPr>
        <p:spPr>
          <a:xfrm>
            <a:off x="3249720" y="504720"/>
            <a:ext cx="3367080" cy="2525760"/>
          </a:xfrm>
          <a:prstGeom prst="rect">
            <a:avLst/>
          </a:prstGeom>
          <a:ln w="0">
            <a:noFill/>
          </a:ln>
        </p:spPr>
      </p:sp>
      <p:sp>
        <p:nvSpPr>
          <p:cNvPr id="1978"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find the facts, opinions, and elaborations that you want to use in your speech, you need to record the information accurately and keep a careful account of your sources so that they can be cited appropriately during your speech.</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nnotated bibliography is a preliminary record of the relevant sources you find pertaining to your topic. It includes a short summary of the information in that source and how it might be used to support your speech. Your annotated bibliography can be used to create your research cards as well as your speech reference list later.</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ing and arranging material is much easier when each item is recorded separately. Recording each piece of information on its own research card allows you to easily find, arrange, and rearrange each item of information as you prepare you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9"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A401-E8D8-4D24-81AE-BB4001DC1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sldImg"/>
          </p:nvPr>
        </p:nvSpPr>
        <p:spPr>
          <a:xfrm>
            <a:off x="3249720" y="504720"/>
            <a:ext cx="3367080" cy="2525760"/>
          </a:xfrm>
          <a:prstGeom prst="rect">
            <a:avLst/>
          </a:prstGeom>
          <a:ln w="0">
            <a:noFill/>
          </a:ln>
        </p:spPr>
      </p:sp>
      <p:sp>
        <p:nvSpPr>
          <p:cNvPr id="1981"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cite sources constitutes plagiarism. Just as you would provide internal references or footnotes in a written document, so must you provide oral footnotes during your speech.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l footnotes are references to an original source, made at the point in the speech where information from that source is presented. The key to preparing oral footnotes is to include enough information for listeners to access the sources themselves and to offer enough credentials to enhance the credibility of the information you are citing.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cite oral footnotes for any information including, for example, visuals, audiovisuals, and interviews.</a:t>
            </a:r>
            <a:endParaRPr b="0" lang="en-US" sz="1200" spc="-1" strike="noStrike">
              <a:solidFill>
                <a:srgbClr val="000000"/>
              </a:solidFill>
              <a:latin typeface="Arial"/>
            </a:endParaRPr>
          </a:p>
        </p:txBody>
      </p:sp>
      <p:sp>
        <p:nvSpPr>
          <p:cNvPr id="1982"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739E-0937-45FD-B525-830CBC6F8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Rectangle 7"/>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7609-FD42-48A6-8DF6-10412260B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4" name="PlaceHolder 1"/>
          <p:cNvSpPr>
            <a:spLocks noGrp="1"/>
          </p:cNvSpPr>
          <p:nvPr>
            <p:ph type="sldImg"/>
          </p:nvPr>
        </p:nvSpPr>
        <p:spPr>
          <a:xfrm>
            <a:off x="3249720" y="504720"/>
            <a:ext cx="3367080" cy="2525760"/>
          </a:xfrm>
          <a:prstGeom prst="rect">
            <a:avLst/>
          </a:prstGeom>
          <a:ln w="0">
            <a:noFill/>
          </a:ln>
        </p:spPr>
      </p:sp>
      <p:sp>
        <p:nvSpPr>
          <p:cNvPr id="1985"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hibit shows a sample research card. Each card should have a heading or keywords that identify the subcategory to which the information belongs. Then the specific fact, opinion, or elaboration statement should be recorded on the card. Any part of the information item that is quoted directly from the source should be enclosed in quotation mark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bliographical publication data related to the source should be also recorded. The information you record depends on whether the source is a book, a periodical, a newspaper, an interview, or a websit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book, include the names of authors, the title of the book, the place of publication and the publisher, the date of publication, and the page or pages from which the information is taken. For a periodical or newspaper, include the name of the author (if given), the title of the article, the name of the publication, the date, and the page number from which the information is taken. For online sources, include the URL for the website, the credentials of the site host, the heading under which you found the information, and the date that you accessed the sit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C396-3910-4D3F-9227-F167A072A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7" name="PlaceHolder 1"/>
          <p:cNvSpPr>
            <a:spLocks noGrp="1"/>
          </p:cNvSpPr>
          <p:nvPr>
            <p:ph type="sldImg"/>
          </p:nvPr>
        </p:nvSpPr>
        <p:spPr>
          <a:xfrm>
            <a:off x="3249720" y="504720"/>
            <a:ext cx="3367080" cy="2525760"/>
          </a:xfrm>
          <a:prstGeom prst="rect">
            <a:avLst/>
          </a:prstGeom>
          <a:ln w="0">
            <a:noFill/>
          </a:ln>
        </p:spPr>
      </p:sp>
      <p:sp>
        <p:nvSpPr>
          <p:cNvPr id="1988"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to preparing oral footnotes is to include enough information for listeners to access the sources themselves and to offer enough credentials to enhance the credibility of the information you are citing. This exhibit gives several examples of appropriate speech source 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7"/>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604E-5709-4820-BD4D-689115C3F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0" name="PlaceHolder 1"/>
          <p:cNvSpPr>
            <a:spLocks noGrp="1"/>
          </p:cNvSpPr>
          <p:nvPr>
            <p:ph type="sldImg"/>
          </p:nvPr>
        </p:nvSpPr>
        <p:spPr>
          <a:xfrm>
            <a:off x="3249720" y="504720"/>
            <a:ext cx="3367080" cy="2525760"/>
          </a:xfrm>
          <a:prstGeom prst="rect">
            <a:avLst/>
          </a:prstGeom>
          <a:ln w="0">
            <a:noFill/>
          </a:ln>
        </p:spPr>
      </p:sp>
      <p:sp>
        <p:nvSpPr>
          <p:cNvPr id="1991"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to preparing oral footnotes is to include enough information for listeners to access the sources themselves and to offer enough credentials to enhance the credibility of the information you are citing. This exhibit gives several examples of appropriate speech source 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sldImg"/>
          </p:nvPr>
        </p:nvSpPr>
        <p:spPr>
          <a:xfrm>
            <a:off x="3249720" y="504720"/>
            <a:ext cx="3367080" cy="2525760"/>
          </a:xfrm>
          <a:prstGeom prst="rect">
            <a:avLst/>
          </a:prstGeom>
          <a:ln w="0">
            <a:noFill/>
          </a:ln>
        </p:spPr>
      </p:sp>
      <p:sp>
        <p:nvSpPr>
          <p:cNvPr id="1942" name="PlaceHolder 2"/>
          <p:cNvSpPr>
            <a:spLocks noGrp="1"/>
          </p:cNvSpPr>
          <p:nvPr>
            <p:ph type="body"/>
          </p:nvPr>
        </p:nvSpPr>
        <p:spPr>
          <a:xfrm>
            <a:off x="987120" y="3198960"/>
            <a:ext cx="789300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3"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FE10E-767D-4EE2-91CD-D63DB4D29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sldImg"/>
          </p:nvPr>
        </p:nvSpPr>
        <p:spPr>
          <a:xfrm>
            <a:off x="3249720" y="504720"/>
            <a:ext cx="3367080" cy="2525760"/>
          </a:xfrm>
          <a:prstGeom prst="rect">
            <a:avLst/>
          </a:prstGeom>
          <a:ln w="0">
            <a:noFill/>
          </a:ln>
        </p:spPr>
      </p:sp>
      <p:sp>
        <p:nvSpPr>
          <p:cNvPr id="1945" name="PlaceHolder 2"/>
          <p:cNvSpPr>
            <a:spLocks noGrp="1"/>
          </p:cNvSpPr>
          <p:nvPr>
            <p:ph type="body"/>
          </p:nvPr>
        </p:nvSpPr>
        <p:spPr>
          <a:xfrm>
            <a:off x="987120" y="3198960"/>
            <a:ext cx="789300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6"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8899-9BB3-4927-AD43-26E9219B0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sldImg"/>
          </p:nvPr>
        </p:nvSpPr>
        <p:spPr>
          <a:xfrm>
            <a:off x="3249720" y="504720"/>
            <a:ext cx="3367080" cy="2525760"/>
          </a:xfrm>
          <a:prstGeom prst="rect">
            <a:avLst/>
          </a:prstGeom>
          <a:ln w="0">
            <a:noFill/>
          </a:ln>
        </p:spPr>
      </p:sp>
      <p:sp>
        <p:nvSpPr>
          <p:cNvPr id="1948"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vidence</a:t>
            </a:r>
            <a:r>
              <a:rPr b="0" lang="en-US" sz="1200" spc="-1" strike="noStrike">
                <a:solidFill>
                  <a:srgbClr val="000000"/>
                </a:solidFill>
                <a:latin typeface="Arial"/>
              </a:rPr>
              <a:t> is essentially any information that clarifies, explains, or otherwise adds depth or breadth to a topic.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ind evidence related to your specific speech goal first by assessing your own knowledge, experience, and personal observations. Then you can move to secondary research.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nformation you find from secondary sources is insufficient and doesn’t answer all of the questions you are seeking answers for, you may need to conduct primary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9"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6D7B-568F-4207-ABAB-C51B88876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sldImg"/>
          </p:nvPr>
        </p:nvSpPr>
        <p:spPr>
          <a:xfrm>
            <a:off x="3249720" y="504720"/>
            <a:ext cx="3367080" cy="2525760"/>
          </a:xfrm>
          <a:prstGeom prst="rect">
            <a:avLst/>
          </a:prstGeom>
          <a:ln w="0">
            <a:noFill/>
          </a:ln>
        </p:spPr>
      </p:sp>
      <p:sp>
        <p:nvSpPr>
          <p:cNvPr id="1951"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onduct your search for secondary sources, you’ll want to draw from a variety of types. You can find pertinent information on the Internet and in encyclopedias, books, articles in academic journals and magazines, newspapers, statistical sources, biographies, quotation books and websites, and government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book provides many specific examples of encyclopedias, electronic databases, biographies, books of quotations, and similar 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2"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DFBA-9D70-4ED0-BE1C-2DF868B22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sldImg"/>
          </p:nvPr>
        </p:nvSpPr>
        <p:spPr>
          <a:xfrm>
            <a:off x="3249720" y="504720"/>
            <a:ext cx="3367080" cy="2525760"/>
          </a:xfrm>
          <a:prstGeom prst="rect">
            <a:avLst/>
          </a:prstGeom>
          <a:ln w="0">
            <a:noFill/>
          </a:ln>
        </p:spPr>
      </p:sp>
      <p:sp>
        <p:nvSpPr>
          <p:cNvPr id="1954"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r search of secondary sources is likely to uncover far more information than you can use, you will want to skim sources or read abstracts of source material to determine whether or not to read them in full. Skimming material or reading abstracts can help you decide which sources are likely to be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5"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CFEB-00A4-48EF-ABC0-05C65A9CD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sldImg"/>
          </p:nvPr>
        </p:nvSpPr>
        <p:spPr>
          <a:xfrm>
            <a:off x="3249720" y="504720"/>
            <a:ext cx="3367080" cy="2525760"/>
          </a:xfrm>
          <a:prstGeom prst="rect">
            <a:avLst/>
          </a:prstGeom>
          <a:ln w="0">
            <a:noFill/>
          </a:ln>
        </p:spPr>
      </p:sp>
      <p:sp>
        <p:nvSpPr>
          <p:cNvPr id="1957"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source material is equally accurate, reliable, and valid. The first test of a resource is the expertise of its author and/or the reputation of the publishing or sponsoring organization. You will also want to be wary of information that is overly bia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be aware that newer information is generally more accurate than older data. And be sure to use only information that is directly related to your topic and supports your m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8"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58B4-9A1E-437C-B94C-5B483EC39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PlaceHolder 1"/>
          <p:cNvSpPr>
            <a:spLocks noGrp="1"/>
          </p:cNvSpPr>
          <p:nvPr>
            <p:ph type="sldImg"/>
          </p:nvPr>
        </p:nvSpPr>
        <p:spPr>
          <a:xfrm>
            <a:off x="3249720" y="504720"/>
            <a:ext cx="3367080" cy="2525760"/>
          </a:xfrm>
          <a:prstGeom prst="rect">
            <a:avLst/>
          </a:prstGeom>
          <a:ln w="0">
            <a:noFill/>
          </a:ln>
        </p:spPr>
      </p:sp>
      <p:sp>
        <p:nvSpPr>
          <p:cNvPr id="1960"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little secondary research available on your topic or on a main idea you want to develop in your speech, or when you wonder whether what you are reading about is true in a particular setting, primary research may be necessary. Fieldwork observations, surveys, interviews, original artifact or document examinations, or experiments are all types of primar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however, that primary research is much more labor intensive and time consuming than secondar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1"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58B5-2C25-4A25-8363-279A743C0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PlaceHolder 1"/>
          <p:cNvSpPr>
            <a:spLocks noGrp="1"/>
          </p:cNvSpPr>
          <p:nvPr>
            <p:ph type="sldImg"/>
          </p:nvPr>
        </p:nvSpPr>
        <p:spPr>
          <a:xfrm>
            <a:off x="3249720" y="504720"/>
            <a:ext cx="3367080" cy="2525760"/>
          </a:xfrm>
          <a:prstGeom prst="rect">
            <a:avLst/>
          </a:prstGeom>
          <a:ln w="0">
            <a:noFill/>
          </a:ln>
        </p:spPr>
      </p:sp>
      <p:sp>
        <p:nvSpPr>
          <p:cNvPr id="1963"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questions: lead-in questions about one of the major topics of the interview, typically related to the main points for the speech.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questions: are follow-up questions designed to probe the answers given to primary question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questions: broad-based probes that ask the interviewee to provide perspective, ideas, information, or opinions as he or she wishe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d questions: narrowly focused and require very brief (one- or two-word) answer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questions: questions phrased in ways that do not direct a person’s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4"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1C99-54B3-40CC-89CE-6C39660CD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DF011-5785-4255-A3B5-CD0A84558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DDF2C-D001-4B05-95B4-A2C9F1D06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73FE01-7170-4E81-BDC0-4C9C31D475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559114-65CD-460D-868E-64F9F456BB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BBABC3-068C-4F35-8BC4-7041821C08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E0C13B-F676-49F2-92BD-C3401EADA1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2F1F88-CC52-46CB-888E-71112725B3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C019B9-16AB-41F9-A522-F095925C56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757574-FE12-404D-AA1A-BE73585AD9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2A438A-812E-49FC-BA19-DAC15B5D1D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3E7703-D1CC-444E-A131-8440C4893D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066FAD-BCA3-47CF-B6AD-C5F299DB41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2D35E-EFC1-4BE9-8871-B63082653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1D83DC-688A-4971-9A0A-F5AC2A7302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617600-CAB3-4BA9-8A59-6566F65284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EE2D0F-30CB-4B47-8512-A479AD1B05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DA22E6-442A-4353-87EE-9E514EDC21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8D49A1-1795-490C-B10B-6BEBF9584E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95AC62-1DC6-4307-8FEC-DA9F0D0682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9E6658-07D9-49C4-A26A-B5D9F65A62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38F478-4168-4B12-A33F-6F211C7CC9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A26C6E-FC74-449E-82F3-DA04B3922D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6A0355C-FC1B-4EB2-9669-332EC4416C0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CA51D-6A66-499D-ADC2-B0B82A5F4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085A990-A6EB-4369-A5F0-9098B6BB81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5C8C96-D559-49AD-9CB7-D3B5B1AF2E5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5BFBF9-0212-42B6-8EFF-6DB646D7FC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C35280-C771-437E-BC40-623089FF84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5522E8-EE96-41F6-AC72-2C4DDB467C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953567-831C-498C-930A-D5B53C63CD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2E2A81-25A2-4B0B-89BE-DAA9DDB255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AF5280-1CD9-4150-AAD6-5BB5D81110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1F1D9D-886B-4BB3-B254-C4DC754CC7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9B9630-ED0B-47D1-AF9A-C1E09C2F47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9AA89-01B5-4F42-A271-50D0D4AF4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DD9110-A7AB-4AA4-880B-C3366C397D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3B6CC4E-7F2D-4275-B88E-5B9C7F82DEF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8AD924-5A5F-4846-BFA9-AB2FBECAD87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695C3E4-E576-4C5D-8580-F9594D447F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F7807A-7298-44B6-8031-094B9C97BC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9FA4A1-F61B-45C7-943A-9D7A1C4BCB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2C41C5-81DB-4301-ABEB-1BA1EE41BB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2275C0-9A04-4B17-9B70-C0C2F115B6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098D5F-8E12-4645-BE7C-A84AE1C0BD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0B4E3F-C770-4F59-AD13-3E3ED36BFF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C8FA5-0474-4EFD-995D-8D5FA25C1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C3E27E-6180-491E-AB02-33944BECE9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7456A8-AC98-4818-A656-4D4F9CDB42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A20DE5-7265-4FF3-87F4-07606CA94D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E6042D6-8E4A-468A-AE00-8B37688E65C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138BDD3-4D8D-4861-AA28-0C8FF1709F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10F0CB2-5BA3-406F-A0B6-CD21AAEC12D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90542A-D3C0-4B61-B252-8E6C934C87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50D869F-65F3-4362-ACF8-E8BE1204E11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90AAE4-AE98-4377-899D-8E7D83AA53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90692F-61B1-4D7E-99EF-83D24248C4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5DC3C-B072-4FE1-8543-21A5980F7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22AA513-8DDD-4395-ABDD-19C29F8D1A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CB2EA5-2842-4734-83AF-5BD1DA4836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A78025-3E27-4585-ABF0-06BA439C71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BAD4B0-84F6-42D6-953D-8D5F5EA238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0CED97-86D0-43C6-9760-D1C0DCD5B5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CCD50CD-75DB-482A-ABA8-E82A1780C73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9897EAD-5D03-4818-8A7A-F3B9F9089FE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B039236-5089-4B68-B7E3-7152E12CF21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77D8996-8D01-446A-952B-668FF17A302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79A230-39AE-403B-99D7-00D36500B2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35B9A-EC1D-4897-963C-9EE1B0349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90F1D23-DEA8-4252-A52D-6CC53F4763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A441E2B-F5F3-4277-9DF9-D23FFE57A2B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DC17358-6A4E-4093-9605-631ED2E049B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90D18F-EC76-4461-8E4A-D034E25C7A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FFFEAA-88D1-4F3A-A32A-2D75EE7BD16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4EF5F70-6182-49A1-BDA4-CADD6F3D1E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4963F69-6B3B-4083-BCBE-4A64600140C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A03B423-04D6-4B1B-A576-703F03F34A7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EF207EC-FA4A-44F1-87EF-6F4FB7E832C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E0EAA3F-22CE-4D1B-9E36-686BE6C76BB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720AD-8FBF-4C93-9D78-9C69080EA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1A3DAE7-67B0-4B74-8922-521877E3C68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DB9836E-9A7A-4AC5-88C5-CA0B6285FB8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2CF2C0D-F2E0-4F7B-9E0E-17ABA620E8E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66ACE02-AC42-4832-A4A9-0F9D8C569F2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5055ED2-777C-4CA3-8BE7-8849E187145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E2638A-06C9-477B-BAEA-F2B72A83280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3781212-F277-4270-80E2-4A44DE702B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CC5EBAB-6603-4F38-BF08-7346F633290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CAD4881-9BA8-4801-BCF6-A12C5B3C29F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A7CC412-ABDD-4DE4-9AF7-C76D64DA49B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510FF-0011-4600-8B9F-CB43E9AE6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1F18B62-486D-4263-B1F8-F8902C82EE5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878013B-5A3C-45BB-984F-32A3E0C68E4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40198FE-D6E4-410A-8A03-2FD466FFBA0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125F0D-E59B-4F5D-8B83-E6EB3AAADD9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0C2C988-400F-40F9-B861-4F10BB85523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1474B59-CF5A-4620-885B-9A2E5B884D2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BA9AE9D-66F2-4D2A-AD7B-22EE76B9353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2EE2F3E-904F-4F40-BDD1-8C6ED1B9B3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8207D4A-8C88-419F-A1C0-8EF34827A13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7C779AA-50E6-4166-ACFF-30984B0A7C4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E0CEE-F6CE-4DB8-87AF-C327E3787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BFA32EE-264F-4EE3-856F-71AF3EC14D2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46C725F-1A1C-4EB6-BCAB-C608E624F92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424C234-5CD7-43F4-B032-F3870C60A5A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53CCE77-BD5B-467E-ACE5-EEEC0446BC3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6ECB74C-13F3-4604-8A7D-69E657EB852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4FCE95E-ED52-41D5-9428-6EB0D71D579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60115AC-4EF9-40FF-A91F-C194F2CAF46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155AD5A-AB58-4A2B-B324-43154CEE8D1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0488CF3-F96E-4BCF-AA49-08458147A9B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6D840B5-B652-4D94-830F-0C62CDD4359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D12DD-63B9-429D-B2F5-C367560E2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82489-D018-418F-B691-D7AA255B2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97E14F7-3CE4-4925-AE1F-F0A4510C206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548114-4949-4A35-9AC9-BACFF8F1ED1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2CB9E05-7717-4357-9076-2943C5E6BFE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773306D-776C-4B92-9829-0B8B4B18F66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148822C-BE92-4CAE-B676-BCDCE9FBEC1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354855A-C384-4A64-9DC3-537EE26C7F1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DD990B3-38E1-423C-8CBB-5BD46710B30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7909486-D49D-4764-A385-527D3D64282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86CF5EC-1EE2-481F-96E0-7DD66F3DD98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DFAEC5F-083D-4963-A977-2AED38136D6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647B6-4B67-45CE-B327-BD3FDDF7A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46FF5C1-F3E5-425F-AE35-A4D5D52A6ED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9AF2FA3-D39B-46D0-B2C3-27C8D7ACE10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1E6B05A-7A5B-4597-AFF5-2CF10AB0271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5E9196D-076E-4D11-A7E7-1387155160E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7C9194E-DE53-40D4-8F84-4437F9ABA99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22772DB-5673-4F8F-9E5A-65362E4BAEB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3761EC3-B397-4DFE-AB4D-B38C3137227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7DFA58C-617E-43AB-BAE7-F90F06FCE76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BF523FA-33D6-489F-9F35-B72DF49270D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6BE8F14-C4BB-478E-9ADA-DDC060F20B6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8CA9F-7017-41FD-A005-E95379C3D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9FB416C-56E5-4C03-A770-C75452B137F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9CCABD3-DA74-4188-9E3D-CADFFCD113A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0D9CD12-F8E1-45AA-8E1A-6BF5006C94A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E890931-89B1-4B70-89F8-9DBD29A6C86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CAE73E8-FBC7-491C-B6DB-AEBE83E393C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CF2E4AF-D689-4F8D-A9DD-CAE6A62CD5D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A93FB0F-FBEA-4323-89E1-F8ADB076E05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B71A008-2CD7-4AE6-BACD-0AC67D3730F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BC38020-64E7-440D-A457-0BB12A553AD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B877232-0C42-41A4-A62B-7D8DC71135E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79F5B-3A28-482B-89D7-6FBCB3CA1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A69AD70-33B3-48E2-9B86-EA1551DA3A6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C81255A-5D5C-4285-B93E-9420B78DE77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2565AF7-EC13-495B-B7A1-E006415D592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1E552E8-6A71-480D-9EB0-3BDD5785D53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0586BBD-602B-4DAC-9F67-C5F87389B9E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84D7355-2166-4DA5-860C-F4996F25592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F9DCD25-B043-479A-8992-F9D63D60156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D9BB519-F0BA-4816-B59E-C312CAF66EC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73B109C-6F61-4F45-AC36-50F2FA352DB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05DC6CB-E6E6-4D16-84FD-51C8BA2E607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237E8-FD1C-47AE-AC09-D40DC1B54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12C049E-64B7-4938-B810-7965BE5C28F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7D6E813-A64D-47CF-B685-284516DFF26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35B573F-81ED-49F2-8384-AD6E5F8D652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43FEDE4-4ADE-4BC5-BC2E-FB206A92D9C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FF01EC4-402F-4FC4-A748-D56EA9DE629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E71E899-760A-4E4F-936C-B8181216D5F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5D45B03-B56D-4016-91CC-2AD4F3B65AA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97E1AA6-3D1A-42F7-B002-2F4C47D50E1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2452395-3BEF-428D-A843-D0FEC9D04D9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47AA0F2-24FF-4A29-99CB-F0B18E8E1C1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BE4DDF-86D0-4D46-BD2E-850CADF600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5526912-C9C5-4F41-BDE7-0384666E5DA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27F8AFB-9622-4C93-8E53-07920869DA1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9CD0B2F-3D10-4583-AFA4-9E2B1361B22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132F156-8B7F-44A6-8E1E-B58AA5FE18F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9A67C9E-7DF4-4B29-AF1B-53F2A2DAD09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2BB20AD-2492-45A6-AEA8-B9D94319EAC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B77DC64-DB55-4966-B2C3-060C2F390C0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A092CC0-DCC6-48B2-A8FC-93ACC6AF0A5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90B1201-8FC0-488C-8759-AA6D3E64B1F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99CF12D-637A-445D-99CB-5D30B1AA568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918C76-D421-461F-8C92-E1072D77DC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24B6B46-B0D6-4A54-A150-BCAEF6D4DA0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D5EA9D4-703F-448F-BAC7-277785E9230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6153360-5560-4D15-9F6A-D99F747F987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38472EF-93F2-44B5-A35F-7ACED7D1AF7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7A4D229-477C-4C4B-A984-CE45A4901F1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F5D4C8D-4BD4-4743-99E3-201C5A6FB47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A1D481D-94C7-4A61-A33D-B2D16A45DE0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03ED88A-D07C-46C0-B64A-34538172E69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E1BAB29-07DD-4008-B274-640684CC5CE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475A188-675C-45C1-9CA4-A2DC643814D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752A06-B67B-487D-AE1C-ECBD387248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B94D4DC-BFF2-4310-8582-05D241BD74A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7F40197-CAB4-426E-96E9-6D3EFFCECD7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8A976E6-6314-4CAA-8C74-839C7FA9520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6FC24BD-CE5F-476A-B2F8-B7826AC2D51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DCA3390-4C95-4491-B256-52363A1C5AE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0524936-D7CA-43AD-81EE-87FC63DB6BD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79992A3-6727-4E56-A41E-954B9EBC6EA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D03B013-62F7-4FE1-A44A-5CDA9B0A0AC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C31B6F1-43C9-4606-8EBD-A8B114E856A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BC7A2B1-914E-4DCC-8AB4-C093FD04EC6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23A7FC-C3C3-4DDF-8699-8B7BFB6DE6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CD5286C-9889-4938-A85B-FD71C116363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D87824A-78DF-4AA6-93B0-579FB475414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69796D4-699E-4274-AE83-F7D45EE2AFC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1674D62-1D84-43D2-B959-FCC74FA4CB7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A6EAC6E-515F-4A7E-82D8-A91504C7415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797DA93-EC52-449E-83E1-EF94B13F767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7C8C6DD-349D-4017-BAC9-E066548955B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E0AB8DE-43FE-4D3F-B78D-57F444144BB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270612F-CDE4-48B0-8A44-D13AA3FE727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A1B05B8-BB60-46A6-9E25-58B1AEFF9A4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444483-29F9-46B8-AF7C-0029CB8FA0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A924BE3-D360-49D5-BA8A-E2356F408B4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DE94C91-0B5B-4354-9FB6-CE011201FF2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D16E7B7-4134-4C0C-A9F2-8A94B5705DD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25C3F4D-3A07-42EC-A794-6C13EB32328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ABAA2FC-D14A-4529-94B1-5C7AD02F1D9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6242538-5CEA-4A89-B833-407BA133576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57DE31E-CF99-4570-B2E7-AA4E785086B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5484795-F82D-4083-887C-2BCF6E7E8C9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D1F95D3-2041-4E6E-9368-01B807D0610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D7DC994-0F68-4B96-AA39-50EE529A149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D7E5E-2E41-4436-B718-8E21F14FF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B7B768-DA06-47A5-8C5D-3ADBA36F01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564D322-1D6D-4961-A6AD-40C3EEBADC4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2C424D3-0B98-4E52-B2C9-9278548EEF0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332916E-20EA-4581-83D3-E18D6EF9AC2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0BEBC0E-85BC-413E-A059-013D4E90641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84CF26C-825D-41B8-B2BB-11DBED4CE02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7883575-F25B-4CB3-969B-CBAD10BAD41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C1005B4-2661-4D6C-9609-CA3261BCA8E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4212941-D6C3-4CA7-8F6C-18219211D4C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38B3B81-6A0C-4065-BF46-A13A8DACBB1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91194E0-4256-4908-BE5C-4CFFCE1AE46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F8B18-2038-4E2D-B5C2-7700DF38D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0BB83C8-7EFA-4AFE-ACB2-B7C18BD5B46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576AD48-062E-48A8-A6E8-A527283A7CA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2E39418-9585-4A4B-80A8-B6DE4F399FA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0D914F5-9AD0-4056-B6B0-4BF5EEAD41F5}"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D19C09E-E49E-473A-A8E8-DC0F0347EDE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F9D83F4-6C95-47EE-93BB-72F1D8C93F9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A9625DC-CD89-45CC-8152-FE5BB87375A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C719C4A-B665-4D0B-822B-E05EE39E6D2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E21F663-3457-4B29-9118-5990D15E75C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94D71B7-CF20-4AA6-A83F-C6564C73660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18BF3-ECF8-4387-8126-66F736F1E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BE9C3F1-9E83-4D0C-AFCB-7AD307579F0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606DE27-707B-4B06-AA4D-2824D45A728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DBCB943-56B3-46B5-9979-A271D5D74B8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74C233B-CD89-4B6A-9972-BC612B3E16A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F12D660-E669-4F78-B88D-55158806B14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2D2B394-2298-442F-B4B2-671C3911528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31DDC46-68FE-4EBF-BAA4-6687C847309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6771EC8-5568-4EBE-8341-04C72B342BE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E2F2CD1-081A-413E-87AF-E13E5C56E0B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0FDBB24-3DCB-48BA-B6A5-54A489B6A47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7AA27-5647-41A3-9DD1-6DDB84407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CB88605-F176-40EC-9421-617AF3F30C0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B737C20-BC71-4265-846E-15408FDB36F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7D7A19E-1AB0-4AB4-A39E-A2681C2E134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4066DEB-13BD-4055-B22B-B612EBC069B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00D848A-7CCF-4C99-830A-4F549696DDD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5D23ED4-69DD-48A7-8F4C-3F3B8AF569F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0A42113D-38EA-49B3-B581-DDE72E37E0F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00D4B2-CAE9-4811-8A55-9DD0858764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94AAC1-91A6-4076-B347-F4BD58A729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5EDA8F-554A-4426-915A-D15A1AA9B9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dt" idx="8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7A27C0-37AC-4075-AB3E-864D8BBE9D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dt" idx="8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dt" idx="8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dt" idx="90"/>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dt" idx="90"/>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dt" idx="90"/>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dt" idx="90"/>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dt" idx="90"/>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dt" idx="90"/>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8311EA-A9F2-4CE2-AAAA-CDE6C50FE5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dt" idx="90"/>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dt" idx="90"/>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dt" idx="90"/>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dt" idx="92"/>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dt" idx="92"/>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dt" idx="92"/>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dt" idx="92"/>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dt" idx="9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AD49EC-DB2C-4C50-8BAD-577273DF24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dt" idx="92"/>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dt" idx="92"/>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dt" idx="92"/>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dt" idx="92"/>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dt" idx="94"/>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58C67-5DA8-4D69-99DC-20D5BB9BE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C494A7-2EC5-4216-AA09-F9976E2B4D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dt" idx="94"/>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dt" idx="94"/>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dt" idx="9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2BB557-3636-4C95-82EF-AFF28F5FEC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dt" idx="9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1D6701-96BA-4992-B683-198E86C885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dt" idx="96"/>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dt" idx="98"/>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72EB0-402F-49FE-8D70-BF88F28580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dt" idx="98"/>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dt" idx="98"/>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dt" idx="100"/>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05DE4E-1EF4-463E-84CF-D7C8F3C83D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dt" idx="100"/>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dt" idx="100"/>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B1E8E-3818-4B26-B965-CECA1CEE7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dt" idx="104"/>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283C22-DB6E-4CBB-B97A-A1734DA319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dt" idx="104"/>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dt" idx="104"/>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dt" idx="10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01198F-7333-42F4-80BF-61F0A26E41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dt" idx="10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0722AB-6274-4E74-A5D1-1E76160EC2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dt" idx="106"/>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dt" idx="108"/>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dt" idx="108"/>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dt" idx="108"/>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dt" idx="108"/>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dt" idx="108"/>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dt" idx="108"/>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760355-65FF-48AC-BDD2-5208360384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dt" idx="108"/>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dt" idx="108"/>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dt" idx="108"/>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dt" idx="110"/>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dt" idx="110"/>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dt" idx="110"/>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dt" idx="110"/>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dt" idx="110"/>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dt" idx="110"/>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29240-E4DC-4FB4-9518-B758A8A90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B106EF-A2DE-4899-853A-615AAB5433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dt" idx="110"/>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dt" idx="110"/>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dt" idx="110"/>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dt" idx="112"/>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dt" idx="112"/>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dt" idx="112"/>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dt" idx="112"/>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dt" idx="1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1EA907-EACB-448F-A622-39E57331DA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dt" idx="112"/>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dt" idx="112"/>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dt" idx="112"/>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dt" idx="112"/>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dt" idx="114"/>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dt" idx="114"/>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dt" idx="1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504638-FAEC-4659-9B60-00002A6727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dt" idx="114"/>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dt" idx="114"/>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dt" idx="114"/>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dt" idx="114"/>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dt" idx="114"/>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dt" idx="114"/>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dt" idx="11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01ABBB-B9A5-43ED-819A-6D29C6D547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dt" idx="116"/>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dt" idx="116"/>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dt" idx="116"/>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dt" idx="116"/>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dt" idx="116"/>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dt" idx="116"/>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dt" idx="11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0D971B-8CF3-4B58-B1F6-5ACC306668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dt" idx="11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B51298-CAA9-4DBA-B7FF-38FE00B23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71B6E5-4D2F-4C1D-8A70-230145DFD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B07572-383A-4828-86C3-A637284C4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911B7A-413A-4069-96D7-94A351369C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74688A-B5E2-4A03-BD31-F784135D62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41D64-BFD4-43B6-9D57-C1A2789E6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A687AB-8545-4264-8BEB-686BF595B3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7F792A-A156-4508-A6FF-0C4E4342CC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C6B993-DA58-4AB0-9BB8-57F90B15D3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338C5F-B1B3-4354-A3EB-7CE2D8ABB6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61F001-C1BB-4CFA-9619-09225A6F94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F0056B-68CB-4308-88A3-B6B706CFE2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2E7AE5-F6D6-44D4-B3F6-B753950D2C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7DEBF0-F698-40F7-9195-161C70581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30A8F6-3F49-4702-8225-2845085A4B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EE9320-5C6B-4230-974C-AD1CB6EA73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5B109-E77E-4FAF-971A-4362E277C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18C149-0710-494E-BB65-897DB6B3E3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9F7D0F-2F58-4255-B9C7-6130C8F2FB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7F7BD5-A59D-4BC9-A2F3-7C7F7C536F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807005-298D-4863-B8C2-6E544F0A8C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287DFE-3554-42A6-B9BA-478E73E5AE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4E59C4-F547-433A-8F7B-C768118509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276DEF-D126-489A-8D6C-DB4385D9D1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EEF241-2CBB-468C-9414-F69D3AEB56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D3EF62-180E-4FF9-929F-624038F3CB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81EED1-46D3-441A-8BFB-2448954F84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390EF-5421-4801-82BD-E0897CB1A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B3E7E7-0279-4719-92E6-0B73A9ADD6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190C9E-F313-422B-85CC-D1185FDD18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B875C6-36CE-47C3-BEEF-6E780999DC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D9B743-1B93-4A2B-B2E8-E27001CE96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B8C8D2-1418-4957-A68C-B1560E9509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2E4272-D0C0-4568-99D5-803C855151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28CBA9-48D7-4358-8325-DDC7583466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9F9FE7-788F-4848-874D-97811F6C5E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07026A-A0F4-4DBA-99CD-BB9E0E09EA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1D97F5-C93D-4175-B8A4-972737EAD1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618C3-25B2-44CA-A04B-C3B72F7D4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94D652-5E2F-4FAB-8A8E-8A34EAC2A5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67B8D1-F4AC-4500-87FC-EC2DF846DE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BC642E-0A7D-4305-BC40-CEFF99B57A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4D056C-F4EE-49AA-A387-D24FD3A62D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CE8DD5-60C2-4D81-9F02-560D0DCD09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606470-EE9B-491C-94D8-1839F6BF81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877D8F-7722-4182-9547-2FDF553939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5641FF-1591-46CD-922A-2F9A6F5C77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1046DA-1E0F-4B7E-A137-5EE183F35C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59AA5D-D7E4-4900-8B75-62CE1801B70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01C1-1378-4E59-9DD2-4767A1B5C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1B88-5C1B-4475-A2C7-162882EAD5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AC52-AA4F-4434-82BB-EBF7C43957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3014-4209-46B7-8DFD-0C90A9A6D0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7355-E87F-4469-BC1F-E3F568D87A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30E6-2786-4CAF-BD6F-5D41B3FB8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E53E-52AA-41BE-8530-E75526394C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5A1E-4AFF-464B-9B9A-0B100B785C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C5075-B68A-451C-B6E4-986813990B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6234-6EF3-4CB2-9D4F-5804899F15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B46A-EA76-4306-9606-6A2D16F907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E0C0-7558-426C-A28E-4305A359B3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FAEA-EA97-4052-9CCE-18F5E4A8CB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1"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DEFF-7907-4FA5-9555-7CB14B588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296F-C957-44D6-9E77-F137413411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D7C8-A2DE-43BB-B995-C74589BFCA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B180-AECA-4146-BFA8-D88805EE8C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0A1E-C9CB-42B8-817E-71D4670F65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B809-3E16-4C46-8136-12A95764DF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3"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3133-E4AF-4D46-8189-08F7370A19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5"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7F95-3CEB-4B35-94FC-B651B31E2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8"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C367-A51B-4F67-A131-AB95E06D64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8" name="PlaceHolder 3"/>
          <p:cNvSpPr>
            <a:spLocks noGrp="1"/>
          </p:cNvSpPr>
          <p:nvPr>
            <p:ph type="ftr" idx="8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8"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9" name="PlaceHolder 3"/>
          <p:cNvSpPr>
            <a:spLocks noGrp="1"/>
          </p:cNvSpPr>
          <p:nvPr>
            <p:ph type="dt" idx="9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4"/>
          <p:cNvSpPr>
            <a:spLocks noGrp="1"/>
          </p:cNvSpPr>
          <p:nvPr>
            <p:ph type="ftr" idx="9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0" name="PlaceHolder 3"/>
          <p:cNvSpPr>
            <a:spLocks noGrp="1"/>
          </p:cNvSpPr>
          <p:nvPr>
            <p:ph type="dt" idx="9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4"/>
          <p:cNvSpPr>
            <a:spLocks noGrp="1"/>
          </p:cNvSpPr>
          <p:nvPr>
            <p:ph type="ftr" idx="9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1"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2" name="PlaceHolder 3"/>
          <p:cNvSpPr>
            <a:spLocks noGrp="1"/>
          </p:cNvSpPr>
          <p:nvPr>
            <p:ph type="dt" idx="9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4"/>
          <p:cNvSpPr>
            <a:spLocks noGrp="1"/>
          </p:cNvSpPr>
          <p:nvPr>
            <p:ph type="ftr" idx="9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3"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4"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5" name="PlaceHolder 3"/>
          <p:cNvSpPr>
            <a:spLocks noGrp="1"/>
          </p:cNvSpPr>
          <p:nvPr>
            <p:ph type="dt" idx="10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PlaceHolder 4"/>
          <p:cNvSpPr>
            <a:spLocks noGrp="1"/>
          </p:cNvSpPr>
          <p:nvPr>
            <p:ph type="ftr" idx="10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6" name="PlaceHolder 3"/>
          <p:cNvSpPr>
            <a:spLocks noGrp="1"/>
          </p:cNvSpPr>
          <p:nvPr>
            <p:ph type="dt" idx="10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PlaceHolder 4"/>
          <p:cNvSpPr>
            <a:spLocks noGrp="1"/>
          </p:cNvSpPr>
          <p:nvPr>
            <p:ph type="ftr" idx="10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3713-BECF-41A6-BB1D-26F718B4B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7"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8" name="PlaceHolder 3"/>
          <p:cNvSpPr>
            <a:spLocks noGrp="1"/>
          </p:cNvSpPr>
          <p:nvPr>
            <p:ph type="dt" idx="10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PlaceHolder 4"/>
          <p:cNvSpPr>
            <a:spLocks noGrp="1"/>
          </p:cNvSpPr>
          <p:nvPr>
            <p:ph type="ftr" idx="10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9" name="PlaceHolder 3"/>
          <p:cNvSpPr>
            <a:spLocks noGrp="1"/>
          </p:cNvSpPr>
          <p:nvPr>
            <p:ph type="dt" idx="1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PlaceHolder 4"/>
          <p:cNvSpPr>
            <a:spLocks noGrp="1"/>
          </p:cNvSpPr>
          <p:nvPr>
            <p:ph type="ftr" idx="1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0" name="PlaceHolder 3"/>
          <p:cNvSpPr>
            <a:spLocks noGrp="1"/>
          </p:cNvSpPr>
          <p:nvPr>
            <p:ph type="dt" idx="1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PlaceHolder 4"/>
          <p:cNvSpPr>
            <a:spLocks noGrp="1"/>
          </p:cNvSpPr>
          <p:nvPr>
            <p:ph type="ftr" idx="1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1" name="PlaceHolder 3"/>
          <p:cNvSpPr>
            <a:spLocks noGrp="1"/>
          </p:cNvSpPr>
          <p:nvPr>
            <p:ph type="dt" idx="1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PlaceHolder 4"/>
          <p:cNvSpPr>
            <a:spLocks noGrp="1"/>
          </p:cNvSpPr>
          <p:nvPr>
            <p:ph type="ftr" idx="1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2" name="PlaceHolder 3"/>
          <p:cNvSpPr>
            <a:spLocks noGrp="1"/>
          </p:cNvSpPr>
          <p:nvPr>
            <p:ph type="dt" idx="1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PlaceHolder 4"/>
          <p:cNvSpPr>
            <a:spLocks noGrp="1"/>
          </p:cNvSpPr>
          <p:nvPr>
            <p:ph type="ftr" idx="1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C1CA-FCD8-4CCC-BB7F-0E50C203D5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1EE63-E6DD-4F8E-84DE-63FDF1E955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F14B-9D80-44A9-BBBB-99566FEB02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0C67-05BF-4F0E-902B-8D18B792DF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D01D-4D33-4600-9C6D-1DEF34D6EF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21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7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21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21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217.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7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7" name="Text Box 6"/>
          <p:cNvSpPr/>
          <p:nvPr/>
        </p:nvSpPr>
        <p:spPr>
          <a:xfrm>
            <a:off x="0" y="20937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Writing Your Speech</a:t>
            </a:r>
            <a:endParaRPr b="0" lang="en-US" sz="4800" spc="-1" strike="noStrike">
              <a:solidFill>
                <a:srgbClr val="000000"/>
              </a:solidFill>
              <a:latin typeface="Arial"/>
            </a:endParaRPr>
          </a:p>
        </p:txBody>
      </p:sp>
      <p:sp>
        <p:nvSpPr>
          <p:cNvPr id="1888" name="Text Box 7"/>
          <p:cNvSpPr/>
          <p:nvPr/>
        </p:nvSpPr>
        <p:spPr>
          <a:xfrm>
            <a:off x="101520" y="-115920"/>
            <a:ext cx="904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1" name=""/>
          <p:cNvSpPr txBox="1"/>
          <p:nvPr/>
        </p:nvSpPr>
        <p:spPr>
          <a:xfrm>
            <a:off x="457200" y="1716120"/>
            <a:ext cx="8229600" cy="4525920"/>
          </a:xfrm>
          <a:prstGeom prst="rect">
            <a:avLst/>
          </a:prstGeom>
          <a:noFill/>
          <a:ln w="0">
            <a:noFill/>
          </a:ln>
        </p:spPr>
        <p:txBody>
          <a:bodyPr anchor="t">
            <a:normAutofit/>
          </a:bodyPr>
          <a:p>
            <a:pPr lvl="1" marL="57168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the interview.</a:t>
            </a:r>
            <a:endParaRPr b="0" lang="en-US" sz="2800" spc="-1" strike="noStrike">
              <a:solidFill>
                <a:srgbClr val="000000"/>
              </a:solidFill>
              <a:latin typeface="Arial"/>
            </a:endParaRPr>
          </a:p>
          <a:p>
            <a:pPr lvl="2" marL="97164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ss professionally, be prompt, and be courteous</a:t>
            </a:r>
            <a:endParaRPr b="0" lang="en-US" sz="2400" spc="-1" strike="noStrike">
              <a:solidFill>
                <a:srgbClr val="000000"/>
              </a:solidFill>
              <a:latin typeface="Arial"/>
            </a:endParaRPr>
          </a:p>
          <a:p>
            <a:pPr lvl="2" marL="97164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permission to record, listen carefully, and keep the interview moving</a:t>
            </a:r>
            <a:endParaRPr b="0" lang="en-US" sz="2400" spc="-1" strike="noStrike">
              <a:solidFill>
                <a:srgbClr val="000000"/>
              </a:solidFill>
              <a:latin typeface="Arial"/>
            </a:endParaRPr>
          </a:p>
          <a:p>
            <a:pPr lvl="2" marL="97164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your nonverbal reactions</a:t>
            </a:r>
            <a:endParaRPr b="0" lang="en-US" sz="2400" spc="-1" strike="noStrike">
              <a:solidFill>
                <a:srgbClr val="000000"/>
              </a:solidFill>
              <a:latin typeface="Arial"/>
            </a:endParaRPr>
          </a:p>
          <a:p>
            <a:pPr lvl="2" marL="97164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permission to quote</a:t>
            </a:r>
            <a:endParaRPr b="0" lang="en-US" sz="2400" spc="-1" strike="noStrike">
              <a:solidFill>
                <a:srgbClr val="000000"/>
              </a:solidFill>
              <a:latin typeface="Arial"/>
            </a:endParaRPr>
          </a:p>
          <a:p>
            <a:pPr lvl="2" marL="97164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 credentials, end on time, and thank the interviewee</a:t>
            </a:r>
            <a:endParaRPr b="0" lang="en-US" sz="2400" spc="-1" strike="noStrike">
              <a:solidFill>
                <a:srgbClr val="000000"/>
              </a:solidFill>
              <a:latin typeface="Arial"/>
            </a:endParaRPr>
          </a:p>
          <a:p>
            <a:pPr lvl="1" marL="57168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the interview.</a:t>
            </a:r>
            <a:endParaRPr b="0" lang="en-US" sz="2800" spc="-1" strike="noStrike">
              <a:solidFill>
                <a:srgbClr val="000000"/>
              </a:solidFill>
              <a:latin typeface="Arial"/>
            </a:endParaRPr>
          </a:p>
        </p:txBody>
      </p:sp>
      <p:sp>
        <p:nvSpPr>
          <p:cNvPr id="1912"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uidelines for Conducting Interviews</a:t>
            </a:r>
            <a:endParaRPr b="0" lang="en-US" sz="4000" spc="-1" strike="noStrike">
              <a:solidFill>
                <a:srgbClr val="000000"/>
              </a:solidFill>
              <a:latin typeface="Arial"/>
            </a:endParaRPr>
          </a:p>
        </p:txBody>
      </p:sp>
      <p:sp>
        <p:nvSpPr>
          <p:cNvPr id="191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4"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Sample Interview Questions</a:t>
            </a:r>
            <a:endParaRPr b="0" lang="en-US" sz="4000" spc="-1" strike="noStrike">
              <a:solidFill>
                <a:srgbClr val="000000"/>
              </a:solidFill>
              <a:latin typeface="Arial"/>
            </a:endParaRPr>
          </a:p>
        </p:txBody>
      </p:sp>
      <p:pic>
        <p:nvPicPr>
          <p:cNvPr id="1916" name="Picture 7" descr=""/>
          <p:cNvPicPr/>
          <p:nvPr/>
        </p:nvPicPr>
        <p:blipFill>
          <a:blip r:embed="rId2"/>
          <a:stretch/>
        </p:blipFill>
        <p:spPr>
          <a:xfrm>
            <a:off x="1187280" y="2411280"/>
            <a:ext cx="6897960" cy="431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7" name=""/>
          <p:cNvSpPr txBox="1"/>
          <p:nvPr/>
        </p:nvSpPr>
        <p:spPr>
          <a:xfrm>
            <a:off x="457200" y="177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ual stat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s, examples, defini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t opin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bor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cdotes and narra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s and contra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ations</a:t>
            </a:r>
            <a:endParaRPr b="0" lang="en-US" sz="2800" spc="-1" strike="noStrike">
              <a:solidFill>
                <a:srgbClr val="000000"/>
              </a:solidFill>
              <a:latin typeface="Arial"/>
            </a:endParaRPr>
          </a:p>
        </p:txBody>
      </p:sp>
      <p:sp>
        <p:nvSpPr>
          <p:cNvPr id="1918"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ntify and Select</a:t>
            </a:r>
            <a:br>
              <a:rPr sz="4000"/>
            </a:br>
            <a:r>
              <a:rPr b="1" lang="en-US" sz="4000" spc="-1" strike="noStrike">
                <a:solidFill>
                  <a:srgbClr val="000000"/>
                </a:solidFill>
                <a:latin typeface="Arial"/>
              </a:rPr>
              <a:t>Relevant Information</a:t>
            </a:r>
            <a:endParaRPr b="0" lang="en-US" sz="4000" spc="-1" strike="noStrike">
              <a:solidFill>
                <a:srgbClr val="000000"/>
              </a:solidFill>
              <a:latin typeface="Arial"/>
            </a:endParaRPr>
          </a:p>
        </p:txBody>
      </p:sp>
      <p:sp>
        <p:nvSpPr>
          <p:cNvPr id="191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0" name=""/>
          <p:cNvSpPr txBox="1"/>
          <p:nvPr/>
        </p:nvSpPr>
        <p:spPr>
          <a:xfrm>
            <a:off x="457200" y="1716120"/>
            <a:ext cx="8229600" cy="4525920"/>
          </a:xfrm>
          <a:prstGeom prst="rect">
            <a:avLst/>
          </a:prstGeom>
          <a:noFill/>
          <a:ln w="0">
            <a:noFill/>
          </a:ln>
        </p:spPr>
        <p:txBody>
          <a:bodyPr anchor="t">
            <a:normAutofit/>
          </a:bodyPr>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nly statistics you can verify to be reliable and valid.</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nly recent statistics so your audience will not be misled.</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tatistics comparatively.</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tatistics sparingly.</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statistics visually.</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at statistics are biased.</a:t>
            </a:r>
            <a:endParaRPr b="0" lang="en-US" sz="3200" spc="-1" strike="noStrike">
              <a:solidFill>
                <a:srgbClr val="000000"/>
              </a:solidFill>
              <a:latin typeface="Arial"/>
            </a:endParaRPr>
          </a:p>
        </p:txBody>
      </p:sp>
      <p:sp>
        <p:nvSpPr>
          <p:cNvPr id="1921"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uidelines for</a:t>
            </a:r>
            <a:br>
              <a:rPr sz="3600"/>
            </a:br>
            <a:r>
              <a:rPr b="1" lang="en-US" sz="3600" spc="-1" strike="noStrike">
                <a:solidFill>
                  <a:srgbClr val="000000"/>
                </a:solidFill>
                <a:latin typeface="Arial"/>
              </a:rPr>
              <a:t>Using Statistics</a:t>
            </a:r>
            <a:endParaRPr b="0" lang="en-US" sz="3600" spc="-1" strike="noStrike">
              <a:solidFill>
                <a:srgbClr val="000000"/>
              </a:solidFill>
              <a:latin typeface="Arial"/>
            </a:endParaRPr>
          </a:p>
        </p:txBody>
      </p:sp>
      <p:sp>
        <p:nvSpPr>
          <p:cNvPr id="1922"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3" name=""/>
          <p:cNvSpPr txBox="1"/>
          <p:nvPr/>
        </p:nvSpPr>
        <p:spPr>
          <a:xfrm>
            <a:off x="457200" y="1760040"/>
            <a:ext cx="8229600" cy="4526280"/>
          </a:xfrm>
          <a:prstGeom prst="rect">
            <a:avLst/>
          </a:prstGeom>
          <a:noFill/>
          <a:ln w="0">
            <a:noFill/>
          </a:ln>
        </p:spPr>
        <p:txBody>
          <a:bodyPr anchor="t">
            <a:normAutofit fontScale="96000"/>
          </a:bodyPr>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 an annotated bibliography</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e research cards</a:t>
            </a:r>
            <a:endParaRPr b="0" lang="en-US" sz="40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each card a heading or keywords identifying the subcategory of the information.</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the specific data on the card.</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the bibliographic data for the source.</a:t>
            </a:r>
            <a:endParaRPr b="0" lang="en-US" sz="3200" spc="-1" strike="noStrike">
              <a:solidFill>
                <a:srgbClr val="000000"/>
              </a:solidFill>
              <a:latin typeface="Arial"/>
            </a:endParaRPr>
          </a:p>
        </p:txBody>
      </p:sp>
      <p:sp>
        <p:nvSpPr>
          <p:cNvPr id="1924"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cord Information</a:t>
            </a:r>
            <a:endParaRPr b="0" lang="en-US" sz="5400" spc="-1" strike="noStrike">
              <a:solidFill>
                <a:srgbClr val="000000"/>
              </a:solidFill>
              <a:latin typeface="Arial"/>
            </a:endParaRPr>
          </a:p>
        </p:txBody>
      </p:sp>
      <p:sp>
        <p:nvSpPr>
          <p:cNvPr id="192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6" name=""/>
          <p:cNvSpPr txBox="1"/>
          <p:nvPr/>
        </p:nvSpPr>
        <p:spPr>
          <a:xfrm>
            <a:off x="457200" y="1774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ntioning your sources not only helps the audience evaluate the content but also adds to your credibility.</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l footnotes: References to an original source, made at the point in the speech where the data from that source is presented.</a:t>
            </a:r>
            <a:endParaRPr b="0" lang="en-US" sz="2800" spc="-1" strike="noStrike">
              <a:solidFill>
                <a:srgbClr val="000000"/>
              </a:solidFill>
              <a:latin typeface="Arial"/>
            </a:endParaRPr>
          </a:p>
        </p:txBody>
      </p:sp>
      <p:sp>
        <p:nvSpPr>
          <p:cNvPr id="1927"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ite Sources</a:t>
            </a:r>
            <a:endParaRPr b="0" lang="en-US" sz="5400" spc="-1" strike="noStrike">
              <a:solidFill>
                <a:srgbClr val="000000"/>
              </a:solidFill>
              <a:latin typeface="Arial"/>
            </a:endParaRPr>
          </a:p>
        </p:txBody>
      </p:sp>
      <p:sp>
        <p:nvSpPr>
          <p:cNvPr id="192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9"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A Sample Research Card</a:t>
            </a:r>
            <a:endParaRPr b="0" lang="en-US" sz="4000" spc="-1" strike="noStrike">
              <a:solidFill>
                <a:srgbClr val="000000"/>
              </a:solidFill>
              <a:latin typeface="Arial"/>
            </a:endParaRPr>
          </a:p>
        </p:txBody>
      </p:sp>
      <p:pic>
        <p:nvPicPr>
          <p:cNvPr id="1931" name="Picture 6" descr=""/>
          <p:cNvPicPr/>
          <p:nvPr/>
        </p:nvPicPr>
        <p:blipFill>
          <a:blip r:embed="rId2"/>
          <a:stretch/>
        </p:blipFill>
        <p:spPr>
          <a:xfrm>
            <a:off x="860400" y="2637000"/>
            <a:ext cx="7402680" cy="393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2"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Appropriate Speech Source Citations</a:t>
            </a:r>
            <a:endParaRPr b="0" lang="en-US" sz="4000" spc="-1" strike="noStrike">
              <a:solidFill>
                <a:srgbClr val="000000"/>
              </a:solidFill>
              <a:latin typeface="Arial"/>
            </a:endParaRPr>
          </a:p>
        </p:txBody>
      </p:sp>
      <p:pic>
        <p:nvPicPr>
          <p:cNvPr id="1934" name="Picture 8" descr=""/>
          <p:cNvPicPr/>
          <p:nvPr/>
        </p:nvPicPr>
        <p:blipFill>
          <a:blip r:embed="rId2"/>
          <a:stretch/>
        </p:blipFill>
        <p:spPr>
          <a:xfrm>
            <a:off x="0" y="2550960"/>
            <a:ext cx="914400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5"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Appropriate Speech Source Citations</a:t>
            </a:r>
            <a:endParaRPr b="0" lang="en-US" sz="4000" spc="-1" strike="noStrike">
              <a:solidFill>
                <a:srgbClr val="000000"/>
              </a:solidFill>
              <a:latin typeface="Arial"/>
            </a:endParaRPr>
          </a:p>
        </p:txBody>
      </p:sp>
      <p:pic>
        <p:nvPicPr>
          <p:cNvPr id="1937" name="Picture 6" descr=""/>
          <p:cNvPicPr/>
          <p:nvPr/>
        </p:nvPicPr>
        <p:blipFill>
          <a:blip r:embed="rId2"/>
          <a:stretch/>
        </p:blipFill>
        <p:spPr>
          <a:xfrm>
            <a:off x="0" y="2314440"/>
            <a:ext cx="9144000" cy="396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1890" name="PlaceHolder 2"/>
          <p:cNvSpPr>
            <a:spLocks noGrp="1"/>
          </p:cNvSpPr>
          <p:nvPr>
            <p:ph type="subTitle"/>
          </p:nvPr>
        </p:nvSpPr>
        <p:spPr>
          <a:xfrm>
            <a:off x="595440" y="1668600"/>
            <a:ext cx="7967520" cy="4906800"/>
          </a:xfrm>
          <a:prstGeom prst="rect">
            <a:avLst/>
          </a:prstGeom>
          <a:noFill/>
          <a:ln w="0">
            <a:noFill/>
          </a:ln>
        </p:spPr>
        <p:txBody>
          <a:bodyPr anchor="t">
            <a:noAutofit/>
          </a:bodyPr>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6-1</a:t>
            </a:r>
            <a:r>
              <a:rPr b="0" lang="en-US" sz="2800" spc="-1" strike="noStrike">
                <a:solidFill>
                  <a:srgbClr val="000000"/>
                </a:solidFill>
                <a:latin typeface="Arial"/>
              </a:rPr>
              <a:t> Locate and evaluate information sources about your topic.</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6-2</a:t>
            </a:r>
            <a:r>
              <a:rPr b="0" lang="en-US" sz="2800" spc="-1" strike="noStrike">
                <a:solidFill>
                  <a:srgbClr val="000000"/>
                </a:solidFill>
                <a:latin typeface="Arial"/>
              </a:rPr>
              <a:t> Select relevant information about your topic.</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6-3</a:t>
            </a:r>
            <a:r>
              <a:rPr b="0" lang="en-US" sz="2800" spc="-1" strike="noStrike">
                <a:solidFill>
                  <a:srgbClr val="000000"/>
                </a:solidFill>
                <a:latin typeface="Arial"/>
              </a:rPr>
              <a:t> Record information accurately.</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6-4</a:t>
            </a:r>
            <a:r>
              <a:rPr b="0" lang="en-US" sz="2800" spc="-1" strike="noStrike">
                <a:solidFill>
                  <a:srgbClr val="000000"/>
                </a:solidFill>
                <a:latin typeface="Arial"/>
              </a:rPr>
              <a:t> Cite sources appropriat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0" y="-360"/>
            <a:ext cx="9144000" cy="130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Arial"/>
              </a:rPr>
              <a:t>Action</a:t>
            </a:r>
            <a:endParaRPr b="0" lang="en-US" sz="7200" spc="-1" strike="noStrike">
              <a:solidFill>
                <a:srgbClr val="000000"/>
              </a:solidFill>
              <a:latin typeface="Arial"/>
            </a:endParaRPr>
          </a:p>
        </p:txBody>
      </p:sp>
      <p:sp>
        <p:nvSpPr>
          <p:cNvPr id="1892" name=""/>
          <p:cNvSpPr txBox="1"/>
          <p:nvPr/>
        </p:nvSpPr>
        <p:spPr>
          <a:xfrm>
            <a:off x="457200" y="1832040"/>
            <a:ext cx="8229600" cy="4525920"/>
          </a:xfrm>
          <a:prstGeom prst="rect">
            <a:avLst/>
          </a:prstGeom>
          <a:noFill/>
          <a:ln w="0">
            <a:noFill/>
          </a:ln>
        </p:spPr>
        <p:txBody>
          <a:bodyPr anchor="t">
            <a:normAutofit fontScale="97000"/>
          </a:bodyPr>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ther and evaluate information.</a:t>
            </a:r>
            <a:endParaRPr b="0" lang="en-US" sz="4000" spc="-1" strike="noStrike">
              <a:solidFill>
                <a:srgbClr val="000000"/>
              </a:solidFill>
              <a:latin typeface="Arial"/>
            </a:endParaRPr>
          </a:p>
          <a:p>
            <a:pPr lvl="1" marL="942480" indent="-49896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areas where you need additional information.</a:t>
            </a:r>
            <a:endParaRPr b="0" lang="en-US" sz="3200" spc="-1" strike="noStrike">
              <a:solidFill>
                <a:srgbClr val="000000"/>
              </a:solidFill>
              <a:latin typeface="Arial"/>
            </a:endParaRPr>
          </a:p>
          <a:p>
            <a:pPr lvl="1" marL="942480" indent="-49896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 evaluate, and select a variety of information types and sources.</a:t>
            </a:r>
            <a:endParaRPr b="0" lang="en-US" sz="3200" spc="-1" strike="noStrike">
              <a:solidFill>
                <a:srgbClr val="000000"/>
              </a:solidFill>
              <a:latin typeface="Arial"/>
            </a:endParaRPr>
          </a:p>
          <a:p>
            <a:pPr lvl="1" marL="942480" indent="-49896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information.</a:t>
            </a:r>
            <a:endParaRPr b="0" lang="en-US" sz="3200" spc="-1" strike="noStrike">
              <a:solidFill>
                <a:srgbClr val="000000"/>
              </a:solidFill>
              <a:latin typeface="Arial"/>
            </a:endParaRPr>
          </a:p>
          <a:p>
            <a:pPr lvl="1" marL="942480" indent="-498960">
              <a:spcBef>
                <a:spcPts val="7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e 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3" name=""/>
          <p:cNvSpPr txBox="1"/>
          <p:nvPr/>
        </p:nvSpPr>
        <p:spPr>
          <a:xfrm>
            <a:off x="457200" y="17748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Secondary research</a:t>
            </a:r>
            <a:r>
              <a:rPr b="0" lang="en-US" sz="4000" spc="-1" strike="noStrike">
                <a:solidFill>
                  <a:srgbClr val="000000"/>
                </a:solidFill>
                <a:latin typeface="Arial"/>
              </a:rPr>
              <a:t>—the process of locating information discovered by other peopl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Primary research</a:t>
            </a:r>
            <a:r>
              <a:rPr b="0" lang="en-US" sz="4000" spc="-1" strike="noStrike">
                <a:solidFill>
                  <a:srgbClr val="000000"/>
                </a:solidFill>
                <a:latin typeface="Arial"/>
              </a:rPr>
              <a:t>—the process of collecting data about your topic directly from the real world.</a:t>
            </a:r>
            <a:endParaRPr b="0" lang="en-US" sz="4000" spc="-1" strike="noStrike">
              <a:solidFill>
                <a:srgbClr val="000000"/>
              </a:solidFill>
              <a:latin typeface="Arial"/>
            </a:endParaRPr>
          </a:p>
        </p:txBody>
      </p:sp>
      <p:sp>
        <p:nvSpPr>
          <p:cNvPr id="1894"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ocate and Evaluate Information Sources</a:t>
            </a:r>
            <a:endParaRPr b="0" lang="en-US" sz="4000" spc="-1" strike="noStrike">
              <a:solidFill>
                <a:srgbClr val="000000"/>
              </a:solidFill>
              <a:latin typeface="Arial"/>
            </a:endParaRPr>
          </a:p>
        </p:txBody>
      </p:sp>
      <p:sp>
        <p:nvSpPr>
          <p:cNvPr id="189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6" name=""/>
          <p:cNvSpPr txBox="1"/>
          <p:nvPr/>
        </p:nvSpPr>
        <p:spPr>
          <a:xfrm>
            <a:off x="457200" y="171612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sourc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yclopedia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paper and periodical articl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sourc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graphi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ation books and websit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documents</a:t>
            </a:r>
            <a:endParaRPr b="0" lang="en-US" sz="3200" spc="-1" strike="noStrike">
              <a:solidFill>
                <a:srgbClr val="000000"/>
              </a:solidFill>
              <a:latin typeface="Arial"/>
            </a:endParaRPr>
          </a:p>
        </p:txBody>
      </p:sp>
      <p:sp>
        <p:nvSpPr>
          <p:cNvPr id="1897"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ondary</a:t>
            </a:r>
            <a:br>
              <a:rPr sz="4000"/>
            </a:br>
            <a:r>
              <a:rPr b="1" lang="en-US" sz="4000" spc="-1" strike="noStrike">
                <a:solidFill>
                  <a:srgbClr val="000000"/>
                </a:solidFill>
                <a:latin typeface="Arial"/>
              </a:rPr>
              <a:t>Research Sources</a:t>
            </a:r>
            <a:endParaRPr b="0" lang="en-US" sz="4000" spc="-1" strike="noStrike">
              <a:solidFill>
                <a:srgbClr val="000000"/>
              </a:solidFill>
              <a:latin typeface="Arial"/>
            </a:endParaRPr>
          </a:p>
        </p:txBody>
      </p:sp>
      <p:sp>
        <p:nvSpPr>
          <p:cNvPr id="189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9" name=""/>
          <p:cNvSpPr txBox="1"/>
          <p:nvPr/>
        </p:nvSpPr>
        <p:spPr>
          <a:xfrm>
            <a:off x="457200" y="1760040"/>
            <a:ext cx="8229600" cy="4526280"/>
          </a:xfrm>
          <a:prstGeom prst="rect">
            <a:avLst/>
          </a:prstGeom>
          <a:noFill/>
          <a:ln w="0">
            <a:noFill/>
          </a:ln>
        </p:spPr>
        <p:txBody>
          <a:bodyPr anchor="t">
            <a:normAutofit/>
          </a:bodyPr>
          <a:p>
            <a:pPr marL="347760" indent="-347760">
              <a:spcBef>
                <a:spcPts val="90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Skimming</a:t>
            </a:r>
            <a:r>
              <a:rPr b="0" lang="en-US" sz="3600" spc="-1" strike="noStrike">
                <a:solidFill>
                  <a:srgbClr val="000000"/>
                </a:solidFill>
                <a:latin typeface="Arial"/>
              </a:rPr>
              <a:t>: rapidly going through a work to determine what is covered and how</a:t>
            </a:r>
            <a:endParaRPr b="0" lang="en-US" sz="3600" spc="-1" strike="noStrike">
              <a:solidFill>
                <a:srgbClr val="000000"/>
              </a:solidFill>
              <a:latin typeface="Arial"/>
            </a:endParaRPr>
          </a:p>
          <a:p>
            <a:pPr marL="347760" indent="-3477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Reading the abstract</a:t>
            </a:r>
            <a:r>
              <a:rPr b="0" lang="en-US" sz="3600" spc="-1" strike="noStrike">
                <a:solidFill>
                  <a:srgbClr val="000000"/>
                </a:solidFill>
                <a:latin typeface="Arial"/>
              </a:rPr>
              <a:t>: a short paragraph summarizing research findings</a:t>
            </a:r>
            <a:endParaRPr b="0" lang="en-US" sz="3600" spc="-1" strike="noStrike">
              <a:solidFill>
                <a:srgbClr val="000000"/>
              </a:solidFill>
              <a:latin typeface="Arial"/>
            </a:endParaRPr>
          </a:p>
        </p:txBody>
      </p:sp>
      <p:sp>
        <p:nvSpPr>
          <p:cNvPr id="1900"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termining Source Value</a:t>
            </a:r>
            <a:endParaRPr b="0" lang="en-US" sz="4400" spc="-1" strike="noStrike">
              <a:solidFill>
                <a:srgbClr val="000000"/>
              </a:solidFill>
              <a:latin typeface="Arial"/>
            </a:endParaRPr>
          </a:p>
        </p:txBody>
      </p:sp>
      <p:sp>
        <p:nvSpPr>
          <p:cNvPr id="190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6-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2" name=""/>
          <p:cNvSpPr txBox="1"/>
          <p:nvPr/>
        </p:nvSpPr>
        <p:spPr>
          <a:xfrm>
            <a:off x="457200" y="1774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teria you can use to determine the accuracy, reliability, and validity of sources are:</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ce</a:t>
            </a:r>
            <a:endParaRPr b="0" lang="en-US" sz="2800" spc="-1" strike="noStrike">
              <a:solidFill>
                <a:srgbClr val="000000"/>
              </a:solidFill>
              <a:latin typeface="Arial"/>
            </a:endParaRPr>
          </a:p>
        </p:txBody>
      </p:sp>
      <p:sp>
        <p:nvSpPr>
          <p:cNvPr id="1903"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valuating Sources</a:t>
            </a:r>
            <a:endParaRPr b="0" lang="en-US" sz="5400" spc="-1" strike="noStrike">
              <a:solidFill>
                <a:srgbClr val="000000"/>
              </a:solidFill>
              <a:latin typeface="Arial"/>
            </a:endParaRPr>
          </a:p>
        </p:txBody>
      </p:sp>
      <p:sp>
        <p:nvSpPr>
          <p:cNvPr id="190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5" name=""/>
          <p:cNvSpPr txBox="1"/>
          <p:nvPr/>
        </p:nvSpPr>
        <p:spPr>
          <a:xfrm>
            <a:off x="457200" y="1789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eldwork observatio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rvey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iew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ginal artifacts or document examinatio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s</a:t>
            </a:r>
            <a:endParaRPr b="0" lang="en-US" sz="4000" spc="-1" strike="noStrike">
              <a:solidFill>
                <a:srgbClr val="000000"/>
              </a:solidFill>
              <a:latin typeface="Arial"/>
            </a:endParaRPr>
          </a:p>
        </p:txBody>
      </p:sp>
      <p:sp>
        <p:nvSpPr>
          <p:cNvPr id="1906"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imary Research</a:t>
            </a:r>
            <a:endParaRPr b="0" lang="en-US" sz="5400" spc="-1" strike="noStrike">
              <a:solidFill>
                <a:srgbClr val="000000"/>
              </a:solidFill>
              <a:latin typeface="Arial"/>
            </a:endParaRPr>
          </a:p>
        </p:txBody>
      </p:sp>
      <p:sp>
        <p:nvSpPr>
          <p:cNvPr id="190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8" name=""/>
          <p:cNvSpPr txBox="1"/>
          <p:nvPr/>
        </p:nvSpPr>
        <p:spPr>
          <a:xfrm>
            <a:off x="457200" y="1774800"/>
            <a:ext cx="8229600" cy="4525920"/>
          </a:xfrm>
          <a:prstGeom prst="rect">
            <a:avLst/>
          </a:prstGeom>
          <a:noFill/>
          <a:ln w="0">
            <a:noFill/>
          </a:ln>
        </p:spPr>
        <p:txBody>
          <a:bodyPr anchor="t">
            <a:normAutofit/>
          </a:bodyPr>
          <a:p>
            <a:pPr lvl="1" marL="685800" indent="-5713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 the best person.</a:t>
            </a:r>
            <a:endParaRPr b="0" lang="en-US" sz="4000" spc="-1" strike="noStrike">
              <a:solidFill>
                <a:srgbClr val="000000"/>
              </a:solidFill>
              <a:latin typeface="Arial"/>
            </a:endParaRPr>
          </a:p>
          <a:p>
            <a:pPr lvl="1" marL="685800" indent="-5713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e the interview protocol.</a:t>
            </a:r>
            <a:endParaRPr b="0" lang="en-US" sz="4000" spc="-1" strike="noStrike">
              <a:solidFill>
                <a:srgbClr val="000000"/>
              </a:solidFill>
              <a:latin typeface="Arial"/>
            </a:endParaRPr>
          </a:p>
          <a:p>
            <a:pPr lvl="2" marL="1085760" indent="-57132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mary and secondary questions</a:t>
            </a:r>
            <a:endParaRPr b="0" lang="en-US" sz="3600" spc="-1" strike="noStrike">
              <a:solidFill>
                <a:srgbClr val="000000"/>
              </a:solidFill>
              <a:latin typeface="Arial"/>
            </a:endParaRPr>
          </a:p>
          <a:p>
            <a:pPr lvl="2" marL="1085760" indent="-57132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en and closed questions</a:t>
            </a:r>
            <a:endParaRPr b="0" lang="en-US" sz="3600" spc="-1" strike="noStrike">
              <a:solidFill>
                <a:srgbClr val="000000"/>
              </a:solidFill>
              <a:latin typeface="Arial"/>
            </a:endParaRPr>
          </a:p>
          <a:p>
            <a:pPr lvl="2" marL="1085760" indent="-57132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tral and leading questions</a:t>
            </a:r>
            <a:endParaRPr b="0" lang="en-US" sz="3600" spc="-1" strike="noStrike">
              <a:solidFill>
                <a:srgbClr val="000000"/>
              </a:solidFill>
              <a:latin typeface="Arial"/>
            </a:endParaRPr>
          </a:p>
        </p:txBody>
      </p:sp>
      <p:sp>
        <p:nvSpPr>
          <p:cNvPr id="1909"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uidelines for Conducting Interviews</a:t>
            </a:r>
            <a:endParaRPr b="0" lang="en-US" sz="4000" spc="-1" strike="noStrike">
              <a:solidFill>
                <a:srgbClr val="000000"/>
              </a:solidFill>
              <a:latin typeface="Arial"/>
            </a:endParaRPr>
          </a:p>
        </p:txBody>
      </p:sp>
      <p:sp>
        <p:nvSpPr>
          <p:cNvPr id="1910"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6-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Administrator</cp:lastModifiedBy>
  <cp:lastPrinted>2016-05-16T10:42:20Z</cp:lastPrinted>
  <dcterms:modified xsi:type="dcterms:W3CDTF">2016-05-16T10:48:22Z</dcterms:modified>
  <cp:revision>328</cp:revision>
  <dc:subject/>
  <dc:title>Chapter One</dc:title>
</cp:coreProperties>
</file>